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9.gif" ContentType="image/gif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FB3AC-2A93-4FCD-9B9F-1444B38079B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CF3C0-765B-4793-A57E-190BB13304C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4FD7-AC48-4F95-955F-95D7D294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AD4-3A29-4C4F-BB84-C02DCC81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5A02-EABE-4932-9E6E-74CA1087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8659-7A3A-4065-97F9-F632AAED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AB3A-AE7B-4F43-B3BB-F2F604BE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9577-6F66-45ED-8742-0B307A60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7A21-361D-4CB0-BF90-53D2889F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A062-9D52-4C41-8A1F-66705E33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359-4DEB-4C38-A796-40888D02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5A72-3F28-4BE9-AE4A-54842383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D51-F1F3-447F-BC10-84ED6C39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D163-1EA0-4C99-A74C-A88C17AF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25903-115D-4BF1-B450-C264539E339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5" descr=""/>
          <p:cNvPicPr/>
          <p:nvPr/>
        </p:nvPicPr>
        <p:blipFill>
          <a:blip r:embed="rId1"/>
          <a:stretch/>
        </p:blipFill>
        <p:spPr>
          <a:xfrm>
            <a:off x="1616040" y="2498760"/>
            <a:ext cx="5911920" cy="284796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2162160" y="905040"/>
            <a:ext cx="4819680" cy="1180800"/>
            <a:chOff x="2162160" y="905040"/>
            <a:chExt cx="4819680" cy="1180800"/>
          </a:xfrm>
        </p:grpSpPr>
        <p:sp>
          <p:nvSpPr>
            <p:cNvPr id="65" name="Text Box 2"/>
            <p:cNvSpPr/>
            <p:nvPr/>
          </p:nvSpPr>
          <p:spPr>
            <a:xfrm>
              <a:off x="3421080" y="101124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三峡之秋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2162160" y="905040"/>
              <a:ext cx="1180800" cy="1180800"/>
              <a:chOff x="2162160" y="905040"/>
              <a:chExt cx="118080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216216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238500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2"/>
          <p:cNvSpPr/>
          <p:nvPr/>
        </p:nvSpPr>
        <p:spPr>
          <a:xfrm>
            <a:off x="790560" y="3267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作者运用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比喻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修辞手法，体现了月亮大、亮、光滑的特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"/>
          <p:cNvSpPr/>
          <p:nvPr/>
        </p:nvSpPr>
        <p:spPr>
          <a:xfrm>
            <a:off x="992160" y="1494000"/>
            <a:ext cx="74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不知在什么时候，它忽然出现在山上，就像从山上生出来的，是山的一部分，宛若一块巨大、磨平、发亮的云母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2"/>
          <p:cNvSpPr/>
          <p:nvPr/>
        </p:nvSpPr>
        <p:spPr>
          <a:xfrm>
            <a:off x="844560" y="1547640"/>
            <a:ext cx="76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这一天，正是中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3"/>
          <p:cNvGrpSpPr/>
          <p:nvPr/>
        </p:nvGrpSpPr>
        <p:grpSpPr>
          <a:xfrm>
            <a:off x="873000" y="2443320"/>
            <a:ext cx="7683480" cy="900000"/>
            <a:chOff x="873000" y="2443320"/>
            <a:chExt cx="7683480" cy="900000"/>
          </a:xfrm>
        </p:grpSpPr>
        <p:sp>
          <p:nvSpPr>
            <p:cNvPr id="115" name="直接连接符 4"/>
            <p:cNvSpPr/>
            <p:nvPr/>
          </p:nvSpPr>
          <p:spPr>
            <a:xfrm>
              <a:off x="873000" y="334332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任意多边形 5"/>
            <p:cNvSpPr/>
            <p:nvPr/>
          </p:nvSpPr>
          <p:spPr>
            <a:xfrm>
              <a:off x="873000" y="2443320"/>
              <a:ext cx="7683480" cy="900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探究（重点）：文章最后一个自然段可不可以去掉？为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矩形 1"/>
          <p:cNvSpPr/>
          <p:nvPr/>
        </p:nvSpPr>
        <p:spPr>
          <a:xfrm>
            <a:off x="846000" y="354960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可以。因为此句是本课的点睛之笔，既总结了全文的时间脉络，又使文章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首尾呼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2"/>
          <p:cNvSpPr/>
          <p:nvPr/>
        </p:nvSpPr>
        <p:spPr>
          <a:xfrm>
            <a:off x="955800" y="2089080"/>
            <a:ext cx="72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同学们刚才已经跟随老师走进课文，品读了课文中的重点语句，现在，让我们拿起金钥匙开启智慧之门吧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内容占位符 2"/>
          <p:cNvSpPr/>
          <p:nvPr/>
        </p:nvSpPr>
        <p:spPr>
          <a:xfrm>
            <a:off x="635040" y="230832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"/>
          <p:cNvSpPr/>
          <p:nvPr/>
        </p:nvSpPr>
        <p:spPr>
          <a:xfrm>
            <a:off x="1058760" y="3456000"/>
            <a:ext cx="7425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本文表达了作者对三峡秋色的热爱与赞美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5"/>
          <p:cNvSpPr/>
          <p:nvPr/>
        </p:nvSpPr>
        <p:spPr>
          <a:xfrm>
            <a:off x="961920" y="289872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文表达了作者怎样的思想感情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531720" y="1185840"/>
            <a:ext cx="55180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内容占位符 2"/>
          <p:cNvSpPr/>
          <p:nvPr/>
        </p:nvSpPr>
        <p:spPr>
          <a:xfrm>
            <a:off x="851040" y="2220840"/>
            <a:ext cx="764532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文章开头写了什么景物？突出了三峡秋景的什么特点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"/>
          <p:cNvSpPr/>
          <p:nvPr/>
        </p:nvSpPr>
        <p:spPr>
          <a:xfrm>
            <a:off x="1006560" y="3346560"/>
            <a:ext cx="72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622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文章的开头介绍了三峡的橘柚树，通过写橘柚树的叶、果、香味，突出了三峡秋天充满成熟的气息的特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内容占位符 2"/>
          <p:cNvSpPr/>
          <p:nvPr/>
        </p:nvSpPr>
        <p:spPr>
          <a:xfrm>
            <a:off x="635040" y="1706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内容占位符 2"/>
          <p:cNvSpPr/>
          <p:nvPr/>
        </p:nvSpPr>
        <p:spPr>
          <a:xfrm>
            <a:off x="750960" y="1765440"/>
            <a:ext cx="771516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文章写了三峡哪几个时间段的景色？各有什么特点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1"/>
          <p:cNvSpPr/>
          <p:nvPr/>
        </p:nvSpPr>
        <p:spPr>
          <a:xfrm>
            <a:off x="1039680" y="279396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早晨、中午、下午、夜晚。早晨的特点是明丽，中午的特点是热烈，下午的特点是青色而透明，夜晚的特点是宁静而神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内容占位符 2"/>
          <p:cNvSpPr/>
          <p:nvPr/>
        </p:nvSpPr>
        <p:spPr>
          <a:xfrm>
            <a:off x="804960" y="1514520"/>
            <a:ext cx="76453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每个时间段里，作者通过写哪些景物来表现三峡不同的特点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1"/>
          <p:cNvSpPr/>
          <p:nvPr/>
        </p:nvSpPr>
        <p:spPr>
          <a:xfrm>
            <a:off x="1230480" y="2611440"/>
            <a:ext cx="70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早晨重点写橘柚树，显示了三峡之晨的特点：明丽。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中午重点写长江，显示了三峡中午的特点：热烈。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下午重点写雾，显示了三峡黄昏的特点：青色而透明。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夜晚先写长江，后写峡谷、月光，突出三峡夜晚的特点：宁静而神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内容占位符 2"/>
          <p:cNvSpPr/>
          <p:nvPr/>
        </p:nvSpPr>
        <p:spPr>
          <a:xfrm>
            <a:off x="790560" y="1701720"/>
            <a:ext cx="764532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在结构上和写作顺序上有什么特点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1198440" y="241920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本文是总分总的结构，介绍三峡景色是按时间顺序来详细介绍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文本框 26"/>
          <p:cNvSpPr/>
          <p:nvPr/>
        </p:nvSpPr>
        <p:spPr>
          <a:xfrm>
            <a:off x="725400" y="3081240"/>
            <a:ext cx="12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三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之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左大括号 3"/>
          <p:cNvSpPr/>
          <p:nvPr/>
        </p:nvSpPr>
        <p:spPr>
          <a:xfrm>
            <a:off x="2825640" y="2719440"/>
            <a:ext cx="357120" cy="200664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2006640"/>
              <a:gd name="textAreaBottom" fmla="*/ 1997640 h 20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0"/>
                  <a:pt x="10800" y="320"/>
                </a:cubicBezTo>
                <a:lnTo>
                  <a:pt x="10800" y="10480"/>
                </a:lnTo>
                <a:cubicBezTo>
                  <a:pt x="10800" y="10640"/>
                  <a:pt x="5400" y="10800"/>
                  <a:pt x="0" y="10800"/>
                </a:cubicBezTo>
                <a:cubicBezTo>
                  <a:pt x="5400" y="10800"/>
                  <a:pt x="10800" y="10960"/>
                  <a:pt x="10800" y="11120"/>
                </a:cubicBezTo>
                <a:lnTo>
                  <a:pt x="10800" y="21280"/>
                </a:lnTo>
                <a:cubicBezTo>
                  <a:pt x="10800" y="2144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4"/>
          <p:cNvSpPr/>
          <p:nvPr/>
        </p:nvSpPr>
        <p:spPr>
          <a:xfrm>
            <a:off x="2046240" y="2077920"/>
            <a:ext cx="20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总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左大括号 6"/>
          <p:cNvSpPr/>
          <p:nvPr/>
        </p:nvSpPr>
        <p:spPr>
          <a:xfrm>
            <a:off x="1844640" y="2133720"/>
            <a:ext cx="312840" cy="3360600"/>
          </a:xfrm>
          <a:custGeom>
            <a:avLst/>
            <a:gdLst>
              <a:gd name="textAreaLeft" fmla="*/ 199800 w 312840"/>
              <a:gd name="textAreaRight" fmla="*/ 313200 w 312840"/>
              <a:gd name="textAreaTop" fmla="*/ 7920 h 3360600"/>
              <a:gd name="textAreaBottom" fmla="*/ 3352680 h 33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4"/>
                  <a:pt x="10800" y="167"/>
                </a:cubicBezTo>
                <a:lnTo>
                  <a:pt x="10800" y="10633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4"/>
                  <a:pt x="10800" y="10967"/>
                </a:cubicBezTo>
                <a:lnTo>
                  <a:pt x="10800" y="21433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3000240" y="2604960"/>
            <a:ext cx="296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早晨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明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中午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热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下午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青色透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夜晚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宁静神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左大括号 24"/>
          <p:cNvSpPr/>
          <p:nvPr/>
        </p:nvSpPr>
        <p:spPr>
          <a:xfrm flipH="1">
            <a:off x="6281640" y="2270160"/>
            <a:ext cx="200160" cy="3222720"/>
          </a:xfrm>
          <a:custGeom>
            <a:avLst/>
            <a:gdLst>
              <a:gd name="textAreaLeft" fmla="*/ 127800 w 200160"/>
              <a:gd name="textAreaRight" fmla="*/ 200520 w 200160"/>
              <a:gd name="textAreaTop" fmla="*/ 5040 h 3222720"/>
              <a:gd name="textAreaBottom" fmla="*/ 3217680 h 322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7"/>
          <p:cNvSpPr/>
          <p:nvPr/>
        </p:nvSpPr>
        <p:spPr>
          <a:xfrm>
            <a:off x="2847960" y="2090880"/>
            <a:ext cx="37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秋的成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8"/>
          <p:cNvSpPr/>
          <p:nvPr/>
        </p:nvSpPr>
        <p:spPr>
          <a:xfrm>
            <a:off x="2836800" y="4870440"/>
            <a:ext cx="41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正是中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9"/>
          <p:cNvSpPr/>
          <p:nvPr/>
        </p:nvSpPr>
        <p:spPr>
          <a:xfrm>
            <a:off x="2178720" y="4842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总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0"/>
          <p:cNvSpPr/>
          <p:nvPr/>
        </p:nvSpPr>
        <p:spPr>
          <a:xfrm>
            <a:off x="2149920" y="3527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分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文本框 26"/>
          <p:cNvSpPr/>
          <p:nvPr/>
        </p:nvSpPr>
        <p:spPr>
          <a:xfrm>
            <a:off x="6481800" y="3135240"/>
            <a:ext cx="141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明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壮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5284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44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5" name="圆角矩形 1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内容占位符 2"/>
          <p:cNvSpPr/>
          <p:nvPr/>
        </p:nvSpPr>
        <p:spPr>
          <a:xfrm>
            <a:off x="934920" y="208440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写了三峡中秋这天从早到晚的不同景色，表现了三峡明朗壮丽、宁静神秘的特点，抒发了作者对祖国大好河山的热爱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0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1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843120" y="238140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背诵自己喜欢的部分，感受三峡之秋的秀丽风光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学习作者抓住景物特点进行描绘的方法，初步接触比喻的修辞手法，体会其描写的生动之处和表达效果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54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5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矩形 1"/>
          <p:cNvSpPr/>
          <p:nvPr/>
        </p:nvSpPr>
        <p:spPr>
          <a:xfrm>
            <a:off x="641520" y="1979640"/>
            <a:ext cx="802944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泉 城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说到济南，自然会想到济南的七十二泉。这些泉有的白浪翻滚，好像银花盛开；有的晶莹剔透，好像明珠散落；有的声音洪大，听起来如虎啸狮吼；有的声音低细，听起来如秋雨潇潇。其中最著名的要数珍珠泉、五龙潭、黑虎泉和趵（</a:t>
            </a:r>
            <a:r>
              <a:rPr b="1" lang="en-US" sz="2100" spc="-1" strike="noStrike">
                <a:solidFill>
                  <a:srgbClr val="000000"/>
                </a:solidFill>
                <a:latin typeface="楷体"/>
                <a:ea typeface="楷体"/>
              </a:rPr>
              <a:t>bào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）突泉了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珍珠泉在泉城路北。泉池约一亩见方，清澈见底。泉水从地下往上涌，好像一串串珍珠。在阳光的映照下，那珠串忽聚忽散，忽断忽续，忽急忽缓，仿佛有一只神奇的手把它们拎到了水面上来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内容占位符 2"/>
          <p:cNvSpPr/>
          <p:nvPr/>
        </p:nvSpPr>
        <p:spPr>
          <a:xfrm>
            <a:off x="996840" y="1162080"/>
            <a:ext cx="73962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五龙潭在旧城的西门外，由五处泉水汇注而成，所以人们称它“五龙潭”。在五龙潭的周围还有月牙泉、悬清泉、古温泉等，组成了五龙潭泉群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黑虎泉的源头在悬崖下的洞穴中。泉口是用石头雕成的三个老虎头，泉水便从“老虎”的口里不断地喷吐出来。水声喧腾，昼夜不息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趵突泉名列七十二泉之首，位于西门外的趵突泉公园内。一个开阔的方形泉池，差不多占了大半个公园。池里的水很清，游鱼水藻都可以看得清清楚楚。泉池正中有三股比吊桶还粗的清泉，“咕嘟咕嘟”地从泉底往上冒，如同三堆白雪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济南的泉水天下闻名，所以人们称济南为“泉城”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1" descr="http://s6.sinaimg.cn/bmiddle/49a01391951bb87626de5"/>
          <p:cNvPicPr/>
          <p:nvPr/>
        </p:nvPicPr>
        <p:blipFill>
          <a:blip r:embed="rId1"/>
          <a:stretch/>
        </p:blipFill>
        <p:spPr>
          <a:xfrm>
            <a:off x="996840" y="2125800"/>
            <a:ext cx="7338960" cy="3760560"/>
          </a:xfrm>
          <a:prstGeom prst="rect">
            <a:avLst/>
          </a:prstGeom>
          <a:ln w="0">
            <a:noFill/>
          </a:ln>
        </p:spPr>
      </p:pic>
      <p:sp>
        <p:nvSpPr>
          <p:cNvPr id="161" name="矩形 1"/>
          <p:cNvSpPr/>
          <p:nvPr/>
        </p:nvSpPr>
        <p:spPr>
          <a:xfrm>
            <a:off x="1042920" y="1992240"/>
            <a:ext cx="7292880" cy="23497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朝辞白帝彩云间， 千里江陵一日还。 两岸猿声啼不住， 轻舟已过万重山。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早发白帝城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李白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君问归期未有期，巴山夜雨涨秋池。何当共剪西窗烛，却话巴山夜雨时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夜雨寄北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李商隐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十二巫山见九峰， 船头彩翠满秋空。 朝云暮雨浑虚雨， 一夜猿啼月明中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三峡歌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陆游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63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1"/>
          <p:cNvSpPr/>
          <p:nvPr/>
        </p:nvSpPr>
        <p:spPr>
          <a:xfrm>
            <a:off x="1803960" y="2095560"/>
            <a:ext cx="21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长江三峡的历史文化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2"/>
          <p:cNvSpPr/>
          <p:nvPr/>
        </p:nvSpPr>
        <p:spPr>
          <a:xfrm>
            <a:off x="1265400" y="2562120"/>
            <a:ext cx="705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长江三峡是巴楚文化的发祥地，黄帝正妃、西陵之女嫘祖的诞生地，三国时期历史事件的重要发生地，王昭君、屈原的故里。同时，李白、杜甫、白居易、欧阳修、苏轼三父子、陆游等历代名人游峡的经历和颂峡的诗篇，为风景区增色添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69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1"/>
          <p:cNvSpPr/>
          <p:nvPr/>
        </p:nvSpPr>
        <p:spPr>
          <a:xfrm>
            <a:off x="3709440" y="2095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于三峡的古诗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"/>
          <p:cNvSpPr/>
          <p:nvPr/>
        </p:nvSpPr>
        <p:spPr>
          <a:xfrm>
            <a:off x="1265400" y="2725560"/>
            <a:ext cx="70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巴东三峡巫峡长，猿鸣三声泪沾裳！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郦道元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峡传何处，双崖壮此门。入天犹石色，穿水忽云根。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瞿塘两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杜甫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组合 6"/>
          <p:cNvGrpSpPr/>
          <p:nvPr/>
        </p:nvGrpSpPr>
        <p:grpSpPr>
          <a:xfrm>
            <a:off x="558720" y="1190520"/>
            <a:ext cx="2811600" cy="666720"/>
            <a:chOff x="558720" y="1190520"/>
            <a:chExt cx="2811600" cy="666720"/>
          </a:xfrm>
        </p:grpSpPr>
        <p:sp>
          <p:nvSpPr>
            <p:cNvPr id="175" name="圆角矩形 7"/>
            <p:cNvSpPr/>
            <p:nvPr/>
          </p:nvSpPr>
          <p:spPr>
            <a:xfrm>
              <a:off x="1347840" y="1328400"/>
              <a:ext cx="1913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文本框 16"/>
            <p:cNvSpPr/>
            <p:nvPr/>
          </p:nvSpPr>
          <p:spPr>
            <a:xfrm>
              <a:off x="1715400" y="1347480"/>
              <a:ext cx="16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拓展积累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684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79" name="矩形 11"/>
          <p:cNvSpPr/>
          <p:nvPr/>
        </p:nvSpPr>
        <p:spPr>
          <a:xfrm>
            <a:off x="1017720" y="217332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么迷人的三峡之秋啊！早晨，绿叶金实，露闪风凉；中午，群峰披甲，波光荡漾；黄昏，青色透明，江水平缓；夜晚，灯光摇曳，月光如瀑。三峡，过去是我们的骄傲，今天仍是我们的骄傲。不管三峡怎么变化，它永远使我们心中的梦，承载着我们永远的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组合 1"/>
          <p:cNvGrpSpPr/>
          <p:nvPr/>
        </p:nvGrpSpPr>
        <p:grpSpPr>
          <a:xfrm>
            <a:off x="631800" y="1631880"/>
            <a:ext cx="7583400" cy="1191240"/>
            <a:chOff x="631800" y="1631880"/>
            <a:chExt cx="7583400" cy="1191240"/>
          </a:xfrm>
        </p:grpSpPr>
        <p:sp>
          <p:nvSpPr>
            <p:cNvPr id="181" name="矩形 12"/>
            <p:cNvSpPr/>
            <p:nvPr/>
          </p:nvSpPr>
          <p:spPr>
            <a:xfrm>
              <a:off x="1171440" y="1631880"/>
              <a:ext cx="7043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思考与交流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. 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默读课文，说说作者是按什么顺序描写三峡之秋的。在课文中找出相关的句子来说明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2" name="Picture 5" descr="E:\各版本共用文件\0未分类文件\图片\课件制作所需图片\四叶草.png"/>
            <p:cNvPicPr/>
            <p:nvPr/>
          </p:nvPicPr>
          <p:blipFill>
            <a:blip r:embed="rId1"/>
            <a:stretch/>
          </p:blipFill>
          <p:spPr>
            <a:xfrm>
              <a:off x="631800" y="1726920"/>
              <a:ext cx="471240" cy="527040"/>
            </a:xfrm>
            <a:prstGeom prst="rect">
              <a:avLst/>
            </a:prstGeom>
            <a:ln w="0">
              <a:noFill/>
            </a:ln>
            <a:effectLst>
              <a:outerShdw dist="38183" dir="135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183" name="TextBox 2"/>
          <p:cNvSpPr/>
          <p:nvPr/>
        </p:nvSpPr>
        <p:spPr>
          <a:xfrm>
            <a:off x="1449360" y="3244680"/>
            <a:ext cx="706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作者是按照时间顺序来描写三峡之秋的。如“ 早晨， 透明的露水闪耀着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……”“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中午，群峰披上金甲，阳光在水面上跳跃。”“下午，太阳还没有落，峡谷里早升起一层青色的雾。”“夜，终于来了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2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矩形 7"/>
          <p:cNvSpPr/>
          <p:nvPr/>
        </p:nvSpPr>
        <p:spPr>
          <a:xfrm>
            <a:off x="1349280" y="2076480"/>
            <a:ext cx="70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在不同的时间里，三峡的景色有着怎样的不同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1612800" y="2766960"/>
            <a:ext cx="69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早晨清新明丽，中午热烈；下午青色而透明，夜晚宁静而神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7"/>
          <p:cNvSpPr/>
          <p:nvPr/>
        </p:nvSpPr>
        <p:spPr>
          <a:xfrm>
            <a:off x="1035000" y="108576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在课文中找一找，哪些语句表现了三峡之秋的美丽景色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2"/>
          <p:cNvSpPr/>
          <p:nvPr/>
        </p:nvSpPr>
        <p:spPr>
          <a:xfrm>
            <a:off x="1284120" y="2225520"/>
            <a:ext cx="7204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早晨的三峡，“透明的露水闪耀着，峡风有些凉意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……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橘柚树闪烁着阳光”，这些语句写出了三峡早晨的清新明丽。中午的三峡，“群峰披上金甲，阳光在水面上跳跃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……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呼啸着，奔腾流去”，这些语句向我们展示了热烈奔放的三峡之美。下午的三峡，“长江平静而轻缓地流淌，变得有如一条明亮的带子”写出了三峡黄昏“静”的魅力。而“长江像是眨着眼睛，沉沉睡”“起初，只能感觉到它朦胧的青光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……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宛若一块巨大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磨平、发亮的云母石”等语句，则将夜晚三峡的朦胧之美表现得淋漓尽致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7"/>
          <p:cNvSpPr/>
          <p:nvPr/>
        </p:nvSpPr>
        <p:spPr>
          <a:xfrm>
            <a:off x="571680" y="1693800"/>
            <a:ext cx="779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于是渔火和灯光，都像惊醒一般，在水面上轻轻地摇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1366920" y="2798640"/>
            <a:ext cx="72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运用了拟人的修辞手法，把渔火和灯光当成人来写，“惊醒一般”表现了渔火和灯光原来沉睡的样子和忽然醒来的样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900000" y="1576440"/>
            <a:ext cx="757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通过上一节课的学习，我们已经初步理解了课文内容，为了更深入地理解课文，老师送给大家一把金钥匙，这就是核心问题和串珠问题。让我们带着这些问题理解课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2"/>
          <p:cNvSpPr/>
          <p:nvPr/>
        </p:nvSpPr>
        <p:spPr>
          <a:xfrm>
            <a:off x="1324080" y="3552840"/>
            <a:ext cx="72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运用了比喻的修辞手法，充分展现出了月光“清冽”的特点，形象地描绘了三峡中秋之夜月色的特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9"/>
          <p:cNvSpPr/>
          <p:nvPr/>
        </p:nvSpPr>
        <p:spPr>
          <a:xfrm>
            <a:off x="511200" y="2033640"/>
            <a:ext cx="78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4960" indent="-80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而月光，从山顶上，顺着直立的深深谷壑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è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，把它那清冽的光辉，一直泻到江面，就像一道道瀑布凌空飞降，又像一匹匹素锦从山上挂下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组合 6"/>
          <p:cNvGrpSpPr/>
          <p:nvPr/>
        </p:nvGrpSpPr>
        <p:grpSpPr>
          <a:xfrm>
            <a:off x="700200" y="1379520"/>
            <a:ext cx="7583400" cy="642600"/>
            <a:chOff x="700200" y="1379520"/>
            <a:chExt cx="7583400" cy="642600"/>
          </a:xfrm>
        </p:grpSpPr>
        <p:sp>
          <p:nvSpPr>
            <p:cNvPr id="194" name="矩形 7"/>
            <p:cNvSpPr/>
            <p:nvPr/>
          </p:nvSpPr>
          <p:spPr>
            <a:xfrm>
              <a:off x="1239840" y="1379520"/>
              <a:ext cx="704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2880" indent="-2728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积累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5" name="Picture 5" descr="E:\各版本共用文件\0未分类文件\图片\课件制作所需图片\四叶草.png"/>
            <p:cNvPicPr/>
            <p:nvPr/>
          </p:nvPicPr>
          <p:blipFill>
            <a:blip r:embed="rId1"/>
            <a:stretch/>
          </p:blipFill>
          <p:spPr>
            <a:xfrm>
              <a:off x="700200" y="1476360"/>
              <a:ext cx="471240" cy="525600"/>
            </a:xfrm>
            <a:prstGeom prst="rect">
              <a:avLst/>
            </a:prstGeom>
            <a:ln w="0">
              <a:noFill/>
            </a:ln>
            <a:effectLst>
              <a:outerShdw dist="38183" dir="135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196" name="TextBox 2"/>
          <p:cNvSpPr/>
          <p:nvPr/>
        </p:nvSpPr>
        <p:spPr>
          <a:xfrm>
            <a:off x="1239840" y="2725560"/>
            <a:ext cx="73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先找出喜欢的段落反复诵读，勾画出关键词，理清作者的思路，再通过想象情景，边想边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3"/>
          <p:cNvSpPr/>
          <p:nvPr/>
        </p:nvSpPr>
        <p:spPr>
          <a:xfrm>
            <a:off x="766800" y="2016000"/>
            <a:ext cx="76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4960" indent="-80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背诵你喜欢的段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2"/>
          <p:cNvSpPr/>
          <p:nvPr/>
        </p:nvSpPr>
        <p:spPr>
          <a:xfrm>
            <a:off x="1128600" y="1511280"/>
            <a:ext cx="72216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新鲜：本文指露水清亮。           轻缓：轻而缓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朦胧 ：月光不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激荡跳跃：本文指阳光照射在流动的江水上而反射出来的光芒一闪一闪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消逝：消失。                   摇曳：摇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沉沉欲睡：沉沉地快要睡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凌空飞降：高高地从空中降下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3"/>
          <p:cNvSpPr/>
          <p:nvPr/>
        </p:nvSpPr>
        <p:spPr>
          <a:xfrm>
            <a:off x="655560" y="928800"/>
            <a:ext cx="76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4960" indent="-80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联系上下文或查词典理解下列词语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7167"/>
          <p:cNvSpPr/>
          <p:nvPr/>
        </p:nvSpPr>
        <p:spPr>
          <a:xfrm>
            <a:off x="865080" y="2157480"/>
            <a:ext cx="754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用“√”选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橘柚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óu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òu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  光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ū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ù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摇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7168"/>
          <p:cNvSpPr/>
          <p:nvPr/>
        </p:nvSpPr>
        <p:spPr>
          <a:xfrm>
            <a:off x="5703840" y="296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3" name="矩形 7168"/>
          <p:cNvSpPr/>
          <p:nvPr/>
        </p:nvSpPr>
        <p:spPr>
          <a:xfrm>
            <a:off x="1919160" y="3514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7168"/>
          <p:cNvSpPr/>
          <p:nvPr/>
        </p:nvSpPr>
        <p:spPr>
          <a:xfrm>
            <a:off x="1866600" y="2976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2"/>
          <p:cNvSpPr/>
          <p:nvPr/>
        </p:nvSpPr>
        <p:spPr>
          <a:xfrm>
            <a:off x="2100600" y="2879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3"/>
          <p:cNvSpPr/>
          <p:nvPr/>
        </p:nvSpPr>
        <p:spPr>
          <a:xfrm>
            <a:off x="6185160" y="2874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21"/>
          <p:cNvSpPr/>
          <p:nvPr/>
        </p:nvSpPr>
        <p:spPr>
          <a:xfrm>
            <a:off x="2152800" y="345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6170760" y="2602080"/>
          <a:ext cx="143964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6170760" y="372888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749600" y="2602080"/>
          <a:ext cx="143964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1749600" y="372888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矩形 3"/>
          <p:cNvSpPr/>
          <p:nvPr/>
        </p:nvSpPr>
        <p:spPr>
          <a:xfrm>
            <a:off x="971640" y="1473120"/>
            <a:ext cx="75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读拼音，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ǎ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ào            huáng hūn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iē    dǎ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ó  chuá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ià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àng yà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959280" y="2602080"/>
          <a:ext cx="143964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3959280" y="372888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矩形 1"/>
          <p:cNvSpPr/>
          <p:nvPr/>
        </p:nvSpPr>
        <p:spPr>
          <a:xfrm>
            <a:off x="1905840" y="26020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闪 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4147560" y="2620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黄 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6390720" y="2620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跌 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5"/>
          <p:cNvSpPr/>
          <p:nvPr/>
        </p:nvSpPr>
        <p:spPr>
          <a:xfrm>
            <a:off x="1921680" y="37767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驳 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6"/>
          <p:cNvSpPr/>
          <p:nvPr/>
        </p:nvSpPr>
        <p:spPr>
          <a:xfrm>
            <a:off x="4147560" y="3736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峭 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6347880" y="3746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荡 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3"/>
          <p:cNvSpPr/>
          <p:nvPr/>
        </p:nvSpPr>
        <p:spPr>
          <a:xfrm>
            <a:off x="711360" y="2208240"/>
            <a:ext cx="758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补充下面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实    波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空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荡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2"/>
          <p:cNvSpPr/>
          <p:nvPr/>
        </p:nvSpPr>
        <p:spPr>
          <a:xfrm>
            <a:off x="2224080" y="288612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绿　      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5"/>
          <p:cNvSpPr/>
          <p:nvPr/>
        </p:nvSpPr>
        <p:spPr>
          <a:xfrm>
            <a:off x="6446160" y="291780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荡    　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19"/>
          <p:cNvSpPr/>
          <p:nvPr/>
        </p:nvSpPr>
        <p:spPr>
          <a:xfrm>
            <a:off x="2300400" y="34178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凌　        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23"/>
          <p:cNvSpPr/>
          <p:nvPr/>
        </p:nvSpPr>
        <p:spPr>
          <a:xfrm>
            <a:off x="5988960" y="346068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激　        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3"/>
          <p:cNvSpPr/>
          <p:nvPr/>
        </p:nvSpPr>
        <p:spPr>
          <a:xfrm>
            <a:off x="1106640" y="2060640"/>
            <a:ext cx="756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仿例写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由青变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   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平静而轻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2"/>
          <p:cNvSpPr/>
          <p:nvPr/>
        </p:nvSpPr>
        <p:spPr>
          <a:xfrm>
            <a:off x="2276280" y="326556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硬　  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4"/>
          <p:cNvSpPr/>
          <p:nvPr/>
        </p:nvSpPr>
        <p:spPr>
          <a:xfrm>
            <a:off x="5774400" y="327492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浅　   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2209320" y="436896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高耸　   陡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9"/>
          <p:cNvSpPr/>
          <p:nvPr/>
        </p:nvSpPr>
        <p:spPr>
          <a:xfrm>
            <a:off x="5571000" y="434340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红润　   光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8"/>
          <p:cNvGrpSpPr/>
          <p:nvPr/>
        </p:nvGrpSpPr>
        <p:grpSpPr>
          <a:xfrm>
            <a:off x="600120" y="1014480"/>
            <a:ext cx="8080200" cy="5508720"/>
            <a:chOff x="600120" y="1014480"/>
            <a:chExt cx="8080200" cy="5508720"/>
          </a:xfrm>
        </p:grpSpPr>
        <p:sp>
          <p:nvSpPr>
            <p:cNvPr id="75" name="圆角矩形 4"/>
            <p:cNvSpPr/>
            <p:nvPr/>
          </p:nvSpPr>
          <p:spPr>
            <a:xfrm>
              <a:off x="600120" y="3876480"/>
              <a:ext cx="3207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文章开头写了什么景物？突出了三峡秋景的什么特点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圆角矩形 5"/>
            <p:cNvSpPr/>
            <p:nvPr/>
          </p:nvSpPr>
          <p:spPr>
            <a:xfrm>
              <a:off x="5224320" y="3889440"/>
              <a:ext cx="34560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文章写了三峡哪几个时间段的景色？各有什么特点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圆角矩形 6"/>
            <p:cNvSpPr/>
            <p:nvPr/>
          </p:nvSpPr>
          <p:spPr>
            <a:xfrm>
              <a:off x="5211720" y="5239080"/>
              <a:ext cx="3468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品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本文在结构上和写作顺序上有什么特点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圆角矩形 7"/>
            <p:cNvSpPr/>
            <p:nvPr/>
          </p:nvSpPr>
          <p:spPr>
            <a:xfrm>
              <a:off x="600120" y="5214240"/>
              <a:ext cx="3207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在每个时间段里，作者通过写哪些景物来表现三峡不同的特点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" name="组合 3"/>
            <p:cNvGrpSpPr/>
            <p:nvPr/>
          </p:nvGrpSpPr>
          <p:grpSpPr>
            <a:xfrm>
              <a:off x="2188080" y="1014480"/>
              <a:ext cx="4767480" cy="5508720"/>
              <a:chOff x="2188080" y="1014480"/>
              <a:chExt cx="4767480" cy="5508720"/>
            </a:xfrm>
          </p:grpSpPr>
          <p:pic>
            <p:nvPicPr>
              <p:cNvPr id="80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1014480"/>
                <a:ext cx="476748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矩形 1"/>
              <p:cNvSpPr/>
              <p:nvPr/>
            </p:nvSpPr>
            <p:spPr>
              <a:xfrm>
                <a:off x="2565360" y="2043360"/>
                <a:ext cx="4089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本文表达了作者怎样的思想感情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矩形 2"/>
              <p:cNvSpPr/>
              <p:nvPr/>
            </p:nvSpPr>
            <p:spPr>
              <a:xfrm>
                <a:off x="4512600" y="12945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爱三峡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574560" y="1133640"/>
            <a:ext cx="15764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"/>
          <p:cNvSpPr/>
          <p:nvPr/>
        </p:nvSpPr>
        <p:spPr>
          <a:xfrm>
            <a:off x="1066680" y="1469880"/>
            <a:ext cx="71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就在这时候，它们开始散发出一种清香，使三峡充满了成熟的秋天的气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1187280" y="3513240"/>
            <a:ext cx="69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作者从橘柚树叶子颜色的变化入手，然后写果实颜色的变化，进而写果实散发出来的清香可见，作者运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11"/>
          <p:cNvGrpSpPr/>
          <p:nvPr/>
        </p:nvGrpSpPr>
        <p:grpSpPr>
          <a:xfrm>
            <a:off x="641520" y="2774880"/>
            <a:ext cx="8105760" cy="540000"/>
            <a:chOff x="641520" y="2774880"/>
            <a:chExt cx="8105760" cy="540000"/>
          </a:xfrm>
        </p:grpSpPr>
        <p:sp>
          <p:nvSpPr>
            <p:cNvPr id="87" name="直接连接符 12"/>
            <p:cNvSpPr/>
            <p:nvPr/>
          </p:nvSpPr>
          <p:spPr>
            <a:xfrm>
              <a:off x="641520" y="3314880"/>
              <a:ext cx="810576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任意多边形 13"/>
            <p:cNvSpPr/>
            <p:nvPr/>
          </p:nvSpPr>
          <p:spPr>
            <a:xfrm>
              <a:off x="641520" y="2774880"/>
              <a:ext cx="8105760" cy="540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这一段中作者运用哪两种感官描写出了秋的气息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"/>
          <p:cNvSpPr/>
          <p:nvPr/>
        </p:nvSpPr>
        <p:spPr>
          <a:xfrm>
            <a:off x="735120" y="11732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早晨，透明的露水闪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耀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着，峡风有些凉意，仿佛满山的橘柚树上撒下了一层洁白的霜，新鲜而明净；太阳出来了，露水消逝，橘柚树闪烁着阳光，绿叶金实，三峡中又是一片秋天的明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3"/>
          <p:cNvGrpSpPr/>
          <p:nvPr/>
        </p:nvGrpSpPr>
        <p:grpSpPr>
          <a:xfrm>
            <a:off x="873000" y="3395520"/>
            <a:ext cx="7683480" cy="854280"/>
            <a:chOff x="873000" y="3395520"/>
            <a:chExt cx="7683480" cy="854280"/>
          </a:xfrm>
        </p:grpSpPr>
        <p:sp>
          <p:nvSpPr>
            <p:cNvPr id="92" name="直接连接符 4"/>
            <p:cNvSpPr/>
            <p:nvPr/>
          </p:nvSpPr>
          <p:spPr>
            <a:xfrm>
              <a:off x="873000" y="424980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任意多边形 5"/>
            <p:cNvSpPr/>
            <p:nvPr/>
          </p:nvSpPr>
          <p:spPr>
            <a:xfrm>
              <a:off x="873000" y="3395520"/>
              <a:ext cx="7683480" cy="854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（难点）：从“露水闪耀”“闪烁着阳光”可以看出，早上的三峡景色是怎样的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矩形 1"/>
          <p:cNvSpPr/>
          <p:nvPr/>
        </p:nvSpPr>
        <p:spPr>
          <a:xfrm>
            <a:off x="681120" y="4400640"/>
            <a:ext cx="79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露水闪耀”写出了远看三峡，满山明净的样子，“闪烁着阳光”突出了墨绿叶子、累累金实的早晨的明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2"/>
          <p:cNvSpPr/>
          <p:nvPr/>
        </p:nvSpPr>
        <p:spPr>
          <a:xfrm>
            <a:off x="735120" y="15825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长江也变得热烈了，像一条金鳞巨蟒，翻滚着，呼啸着，奔腾流去；同时又把它那激荡跳跃的光辉，投向两岸峭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组合 6"/>
          <p:cNvGrpSpPr/>
          <p:nvPr/>
        </p:nvGrpSpPr>
        <p:grpSpPr>
          <a:xfrm>
            <a:off x="873000" y="3240000"/>
            <a:ext cx="7683480" cy="560520"/>
            <a:chOff x="873000" y="3240000"/>
            <a:chExt cx="7683480" cy="560520"/>
          </a:xfrm>
        </p:grpSpPr>
        <p:sp>
          <p:nvSpPr>
            <p:cNvPr id="97" name="直接连接符 7"/>
            <p:cNvSpPr/>
            <p:nvPr/>
          </p:nvSpPr>
          <p:spPr>
            <a:xfrm>
              <a:off x="873000" y="380052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任意多边形 8"/>
            <p:cNvSpPr/>
            <p:nvPr/>
          </p:nvSpPr>
          <p:spPr>
            <a:xfrm>
              <a:off x="873000" y="3240000"/>
              <a:ext cx="7683480" cy="56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这两句话中，作者是如何写出三峡的热烈的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矩形 4"/>
          <p:cNvSpPr/>
          <p:nvPr/>
        </p:nvSpPr>
        <p:spPr>
          <a:xfrm>
            <a:off x="892080" y="3822840"/>
            <a:ext cx="76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作者运用了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拟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和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比喻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修辞手法写出三峡的热烈。“披”字将群峰拟人化了，把阳光比作金甲，把阳光下翻滚着、呼啸着的长江比作金鳞巨蟒，写出了山峰的威武、长江的磅礴气势、三峡的热烈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"/>
          <p:cNvSpPr/>
          <p:nvPr/>
        </p:nvSpPr>
        <p:spPr>
          <a:xfrm>
            <a:off x="885960" y="1058760"/>
            <a:ext cx="7683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运用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请你运用拟人、比喻的手法，写一写你见过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河或群山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图片 24" descr="花盆.png"/>
          <p:cNvPicPr/>
          <p:nvPr/>
        </p:nvPicPr>
        <p:blipFill>
          <a:blip r:embed="rId1"/>
          <a:stretch/>
        </p:blipFill>
        <p:spPr>
          <a:xfrm>
            <a:off x="642960" y="1212840"/>
            <a:ext cx="322200" cy="368280"/>
          </a:xfrm>
          <a:prstGeom prst="rect">
            <a:avLst/>
          </a:prstGeom>
          <a:ln w="0">
            <a:noFill/>
          </a:ln>
        </p:spPr>
      </p:pic>
      <p:grpSp>
        <p:nvGrpSpPr>
          <p:cNvPr id="102" name="组合 3"/>
          <p:cNvGrpSpPr/>
          <p:nvPr/>
        </p:nvGrpSpPr>
        <p:grpSpPr>
          <a:xfrm>
            <a:off x="5259240" y="3714840"/>
            <a:ext cx="3683160" cy="2717640"/>
            <a:chOff x="5259240" y="3714840"/>
            <a:chExt cx="3683160" cy="2717640"/>
          </a:xfrm>
        </p:grpSpPr>
        <p:pic>
          <p:nvPicPr>
            <p:cNvPr id="103" name="Picture 2" descr="https://timgsa.baidu.com/timg?image&amp;quality=80&amp;size=b9999_10000&amp;sec=1492599224211&amp;di=b92c10ad48cc39ac129ca93e6f8217fc&amp;imgtype=0&amp;src=http%3A%2F%2Fimg.taopic.com%2Fuploads%2Fallimg%2F120827%2F214833-120RGS53295.jpg"/>
            <p:cNvPicPr/>
            <p:nvPr/>
          </p:nvPicPr>
          <p:blipFill>
            <a:blip r:embed="rId2"/>
            <a:stretch/>
          </p:blipFill>
          <p:spPr>
            <a:xfrm>
              <a:off x="5259240" y="3714840"/>
              <a:ext cx="3683160" cy="27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"/>
            <p:cNvSpPr/>
            <p:nvPr/>
          </p:nvSpPr>
          <p:spPr>
            <a:xfrm>
              <a:off x="5549040" y="3915000"/>
              <a:ext cx="249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相信你还能说出更多这样的句子，试一试吧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矩形 1"/>
          <p:cNvSpPr/>
          <p:nvPr/>
        </p:nvSpPr>
        <p:spPr>
          <a:xfrm>
            <a:off x="1004760" y="2682720"/>
            <a:ext cx="744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连绵起伏的山峦，好像一匹匹骏马沉浸在迷蒙的晓雾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"/>
          <p:cNvSpPr/>
          <p:nvPr/>
        </p:nvSpPr>
        <p:spPr>
          <a:xfrm>
            <a:off x="844560" y="1547640"/>
            <a:ext cx="76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夜，终于来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组合 3"/>
          <p:cNvGrpSpPr/>
          <p:nvPr/>
        </p:nvGrpSpPr>
        <p:grpSpPr>
          <a:xfrm>
            <a:off x="873000" y="2443320"/>
            <a:ext cx="7683480" cy="900000"/>
            <a:chOff x="873000" y="2443320"/>
            <a:chExt cx="7683480" cy="900000"/>
          </a:xfrm>
        </p:grpSpPr>
        <p:sp>
          <p:nvSpPr>
            <p:cNvPr id="108" name="直接连接符 4"/>
            <p:cNvSpPr/>
            <p:nvPr/>
          </p:nvSpPr>
          <p:spPr>
            <a:xfrm>
              <a:off x="873000" y="334332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任意多边形 5"/>
            <p:cNvSpPr/>
            <p:nvPr/>
          </p:nvSpPr>
          <p:spPr>
            <a:xfrm>
              <a:off x="873000" y="2443320"/>
              <a:ext cx="7683480" cy="900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“终于”一词与前面的哪句话呼应？写出了三峡的黄昏怎样的特点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矩形 1"/>
          <p:cNvSpPr/>
          <p:nvPr/>
        </p:nvSpPr>
        <p:spPr>
          <a:xfrm>
            <a:off x="846000" y="354960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终于”呼应前文“这使得峡谷里的黄昏来得特别早，而去得特别迟”这句话，突出三峡黄昏时间长的特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1T08:43:33Z</dcterms:modified>
  <cp:revision>4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